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53F-1176-4B4E-ADFC-FEC9671B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257-08ED-41C3-8225-4D84B079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E17-585E-41A6-B211-4ACC71A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A3F-1055-43DF-914B-EA3CB582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D3E1-FC50-4794-ABF3-487EA698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8E01-7636-4D4D-9B99-80259A9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137-36D2-4433-91B7-C87F63DD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0A4-3E29-41C0-989F-F97F0DB1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5D22-63AD-42CC-84F2-6B2CB2C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BC0C-9A49-4DE2-B073-4237220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2A1E-4E82-4D12-B12E-F09354EB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9E4-3B13-4FFE-B6F6-7F85A7A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72D-B6A0-4F54-9603-CB28298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E8F4-97BF-483C-9269-23E8F30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871-484B-4022-A039-E9798A58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BA49-E209-4E03-AAB2-115A1002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2BF-EA4F-4FE6-8081-C3317E0E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B8C-73EE-47FF-B1E4-AAA6CA28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56B-9C5E-489B-8C3A-93C2CE9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07C-184B-4E4F-8E74-ABB4EAE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792-1383-4584-9973-E3D5F2EB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B9F-8B9E-4B6F-AC65-0ABC8D1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CC7-DDDC-4E5E-A742-35259A5B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2FC-1647-462C-AF96-3A2BA42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6B1-B111-407B-A009-D128DFD09B3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213-0C33-49BE-9D61-6AFBF2F90D9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s de Inventar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o con Descuento por cant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578E-7044-4ED8-B9B4-773DA9970F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Inventario representado sin tomar a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9240" y="2503440"/>
          <a:ext cx="7685280" cy="23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2503440"/>
                    <a:ext cx="76852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AB5-978F-4EF7-A698-7758477D3C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Inventario representado con toma de  a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2362320"/>
          <a:ext cx="769644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64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133720" y="54100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Compra de 2 lotes en punto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0D1-765F-41C4-864D-685947B3D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ormulas para manejo del lote optimo de comp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3800" y="2514600"/>
            <a:ext cx="6288840" cy="30801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54"/>
                </a:solidFill>
                <a:latin typeface="Times New Roman"/>
              </a:rPr>
              <a:t>Q’ = (C2-C1))*D/Cp1+[Cp2/Cp1]</a:t>
            </a: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½  * Q-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Siendo I el nivel de invent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donde se compra el lote Q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Ahorros to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54"/>
                </a:solidFill>
                <a:latin typeface="Times New Roman"/>
                <a:ea typeface="Times New Roman"/>
              </a:rPr>
              <a:t>AT’ = (Cp1/2*D)*Q’</a:t>
            </a:r>
            <a:r>
              <a:rPr b="0" lang="es-ES_tradnl" sz="2800" spc="-1" strike="noStrike" baseline="30000">
                <a:solidFill>
                  <a:srgbClr val="000054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466-F32F-4046-AF21-9992DFE83A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descuentos por cant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l proveedor cambia el precio unitario del ítem si el lote comprado supera cierta cant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solidFill>
            <a:srgbClr val="fcab40"/>
          </a:solidFill>
          <a:ln w="0">
            <a:noFill/>
          </a:ln>
          <a:effectLst>
            <a:outerShdw dist="17819" dir="2700000" blurRad="0" rotWithShape="0">
              <a:srgbClr val="96662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Arial"/>
              </a:rPr>
              <a:t>D= 400 unid/sema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Arial"/>
              </a:rPr>
              <a:t>Co = 50 $ /or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Arial"/>
              </a:rPr>
              <a:t>C = 10 $/un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Arial"/>
              </a:rPr>
              <a:t>i = 0,036    h = 0,013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54"/>
                </a:solidFill>
                <a:latin typeface="Arial"/>
              </a:rPr>
              <a:t>h    = 0,70/52            $/unid se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54"/>
                </a:solidFill>
                <a:latin typeface="Arial"/>
              </a:rPr>
              <a:t>i = (0,16 +0.03)/52   $/$ se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D6F-5D7C-4176-889A-054E4ADF2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descuentos por cant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2604960"/>
          <a:ext cx="6781680" cy="234936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400"/>
                <a:gridCol w="1130040"/>
                <a:gridCol w="113040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Un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.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.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&gt;</a:t>
                      </a: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</a:tr>
              <a:tr h="13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$/un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.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.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.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.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.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54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184560" y="19461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Tabla escalonada de preci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7DB-A74E-4DF2-8F2C-F97432BD2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descuentos por cant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33720"/>
            <a:ext cx="6705360" cy="285984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CT =(Co*D/Q) + ((h+i*C)*Q/2) +C*D  </a:t>
            </a: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Bs/ sema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(20000/Q) + ((0.0134+0.0036*C)*Q/2) +C*4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Para C= f(Q) según la tarif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La estrategia de solución será resolver un modelo de minimización por cada intervalo en que se encuentre dividido el rango de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7160" y="5157720"/>
            <a:ext cx="1997280" cy="118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T’=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2*Co/Cp*D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Q’= Imax= T*D = 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Co*D*2/Cp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N’ =1/T= 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Cp*D/2*Co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CO’= Co*N = 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Co*Cp*D/2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CP’ = Cp*Im = 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Co*Cp*D/2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CT’ = CO+CP = </a:t>
            </a:r>
            <a:r>
              <a:rPr b="1" lang="en-US" sz="1200" spc="-1" strike="noStrike">
                <a:solidFill>
                  <a:srgbClr val="000054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 (2*Co*Cp*D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520" y="5661000"/>
            <a:ext cx="186624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54"/>
                </a:solidFill>
                <a:latin typeface="Arial Narrow"/>
              </a:rPr>
              <a:t>Formulas del primer model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5734080"/>
            <a:ext cx="432000" cy="142920"/>
          </a:xfrm>
          <a:prstGeom prst="leftArrow">
            <a:avLst>
              <a:gd name="adj1" fmla="val 50000"/>
              <a:gd name="adj2" fmla="val 755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3DC-EAFA-4DDC-9718-BCDEABBFF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descuentos por cant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9000" y="1501920"/>
          <a:ext cx="805500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501920"/>
                    <a:ext cx="80550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148360" y="17733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Times New Roman"/>
              </a:rPr>
              <a:t>Modelo discontinu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4B7-1F20-48D0-92AC-3C4E31CC03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descuentos por cant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2003400"/>
          <a:ext cx="738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03400"/>
                    <a:ext cx="738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19280" y="558972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Q’ Valor para la cual la derivada de Ct vale 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Q* Valor Optimo de Q restringido al interval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35A-624D-40DA-AF1F-DA02380C19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Explicación tabla anteri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52160" y="1793880"/>
            <a:ext cx="7459200" cy="46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Calculo de valor optimo de Q en el interval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 Q’</a:t>
            </a: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L 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=&gt; Q* = L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 L 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Q’ </a:t>
            </a: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 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=&gt; Q*= Q’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 Q’ </a:t>
            </a: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L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=&gt; no se toma en cue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Columna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ara cada valor de  Q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T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 (2 Co*D/Cp)</a:t>
            </a:r>
            <a:r>
              <a:rPr b="0" lang="es-ES_tradnl" sz="32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½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+C*D  si Q* = Q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T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 Co* D/Q +Cp * Q/2 +C*D si Q*= L</a:t>
            </a:r>
            <a:r>
              <a:rPr b="0" lang="es-ES_tradnl" sz="32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94D-417E-4F39-9375-0D6255DAE8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cambios de prec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n este caso se anticipa que habrá una variación en el preci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ata a manejar será la sigui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D    = 400 / semana                  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o    = 50 $/ord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h    = 0,70/52 $/unid sem          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 i       = 0,19/52 $/$ s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1  = 10 $/Unid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p1  =0,05 $/un s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Q1  = 894 Unidades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1    = 2,235 sem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T1= 44,62 $/s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conoce que el costo unitario aumentará a 12 $ unida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941-8A53-4304-8107-3FEC41103F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Modelo con cambios de prec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os parámetros cambiaran 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2 = 12 $/unid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p2= 0,05731 $/un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Q2 = 835 unid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T2   = 2,0875 seman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T2 = 47,88 $ / seman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 realizo una orden al inicio de la primera sema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tamos al inicio de la segunda semana del añ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cambio de precios será al inicio de la cuarta semana y ya se sabe és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C8F-7EC3-4AE5-B044-FA859B60FB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26:04Z</dcterms:created>
  <dc:creator>vl.</dc:creator>
  <dc:description/>
  <dc:language>en-US</dc:language>
  <cp:lastModifiedBy>Victor</cp:lastModifiedBy>
  <dcterms:modified xsi:type="dcterms:W3CDTF">2003-07-01T15:36:10Z</dcterms:modified>
  <cp:revision>16</cp:revision>
  <dc:subject/>
  <dc:title>Modelos de Inventario</dc:title>
</cp:coreProperties>
</file>