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156-D924-4888-B3B1-EE9F50C9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501E-A5B9-4243-9B3F-4CFAEDA1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A089-60BD-4D9F-B468-E0ED6D82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F9BC-A657-4585-A232-D8CF0404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6EE8-3ECB-460B-8EB8-4134D3C6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5BA5-86AE-4885-B6D1-52C91690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65C7-0873-44BC-A8F1-52A001DC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43CE-719D-4C0A-9029-F00670B5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3C05-7431-4D6D-952B-B7AC0759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3FE4-1418-4412-9E8F-86F646DE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BE50-EBC5-459C-A44E-688609CD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582-063A-4257-8F4A-7AE934C0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D695-2403-4BD8-8266-38331CEA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9559-6330-46F4-9BA5-61CB1993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9FD4-0415-41DF-A695-B3C16DE6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32E0-8EEE-44BF-85DA-6D499F8A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5425-37B4-4B1D-9034-9FBD3296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9868-E00F-42EF-B5C7-415E37D8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A6D-43EC-4A5C-B51D-2536FB13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E308-5231-44D8-9972-463E4422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BB63-43B7-47DD-ACD6-EE5EAC70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0566-0A2F-4BFF-96B1-9C6E31F1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D87-22D3-4F73-9930-7E205D0A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9DB-A7B8-4556-B39F-3BC0E69E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2CBF-5446-459E-A91A-D5F47DC51345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9BCF-501F-4F30-ABF4-44C656071602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ebd189"/>
                </a:solidFill>
                <a:latin typeface="Arial"/>
              </a:rPr>
              <a:t>Modelos Con Escacez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rencia de Inventari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Formulas para el  model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1508040"/>
            <a:ext cx="7162920" cy="4667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9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1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= Q/P = Imax/ (P-D) = (D/P)* 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1039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2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=Imax/D = (1-D/P)*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1039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=T1+T2 = Q/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1039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Q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=T1*P = T*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1039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max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=(P-D)*T1=D*T2=D(1-D/P)*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1039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m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=Imax/2=D*(1-D/P)*T/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1039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1/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=D/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1039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2/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=1-D/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1039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=Co/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1039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P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=Cp*Im=Cp*D*(1-D/P)*T/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1039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=(Co/T)+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½*Cp*D*(1-D/P)*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1039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1039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’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= [2*Co/Cp*D*(1-D/P)]</a:t>
            </a:r>
            <a:r>
              <a:rPr b="0" lang="es-ES_tradnl" sz="20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1039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T’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= [2*Co*CpD*(1-D/P)] </a:t>
            </a:r>
            <a:r>
              <a:rPr b="0" lang="es-ES_tradnl" sz="20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1039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5105520"/>
            <a:ext cx="4953240" cy="106668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5410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minim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os Formulas Básicas Adicionale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4010040" cy="1608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264960" indent="-96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T’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= [2*Co/Cp*D*(1-D/P)]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64960" indent="-96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que tambien se expresa com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6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692360" y="4025880"/>
                <a:ext cx="28796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´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  <m:r>
                              <m:t xml:space="preserve">×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rad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084720" y="3357720"/>
            <a:ext cx="2232360" cy="368280"/>
          </a:xfrm>
          <a:prstGeom prst="rect">
            <a:avLst/>
          </a:prstGeom>
          <a:solidFill>
            <a:srgbClr val="fca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Q’ se expresa com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796000" y="4299120"/>
                <a:ext cx="297180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  <m:r>
                              <m:t xml:space="preserve">×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bd189"/>
                </a:solidFill>
                <a:latin typeface="Arial"/>
              </a:rPr>
              <a:t>Modelo deterministico con escasez reposición a P unidades/tiempo</a:t>
            </a: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000080" y="1905120"/>
          <a:ext cx="8143920" cy="297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905120"/>
                    <a:ext cx="81439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Formulas para el model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2057400"/>
            <a:ext cx="7086600" cy="4484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Times New Roman"/>
              </a:rPr>
              <a:t>CT = Co*D/Q+ Cp*Imax/2*(T1+T2/T)+Ce* Emax/2(T3+T4)/T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Times New Roman"/>
              </a:rPr>
              <a:t>Q*= (2*Co*D*(Co+Ce)/Co*(1-D/P)*Ce)</a:t>
            </a:r>
            <a:r>
              <a:rPr b="1" lang="es-ES_tradnl" sz="20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Times New Roman"/>
              </a:rPr>
              <a:t>Emax=(2*Co*D*Cp*(1-D/P)/(Cp+Ce)*Ce) </a:t>
            </a:r>
            <a:r>
              <a:rPr b="1" lang="es-ES_tradnl" sz="20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T’ = (</a:t>
            </a:r>
            <a:r>
              <a:rPr b="1" lang="es-ES_tradnl" sz="2000" spc="-1" strike="noStrike">
                <a:solidFill>
                  <a:srgbClr val="eaeaea"/>
                </a:solidFill>
                <a:latin typeface="Times New Roman"/>
              </a:rPr>
              <a:t>2*Co*D*Cp*Ce *(1-D/P)/(Cp+Ce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Algunos conceptos sobre escasez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n periodos de quiebres de inventario por tanto existe escasez en ese perio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sto quiere decir que habrá un periodo durante el cual el inventario esta en cero pero existe una demanda no satisfech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uando el quiebre existe se le indica a los clientes que esperen un poco para que el inventario lleg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Modelo determinístico con escasez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a data es la misma del modelo ya manej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= 400/sem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= 50 $/ord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p= 0.05 $/Un. Sem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= 10 $/Un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e permiten escacesez durante  media sema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Grafica del modelo</a:t>
            </a:r>
            <a:br>
              <a:rPr sz="4400"/>
            </a:b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00000" y="1557360"/>
          <a:ext cx="7920000" cy="374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92000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34120" y="5527800"/>
            <a:ext cx="45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Se compran lotes de 1000 unidad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4581360"/>
            <a:ext cx="2160360" cy="0"/>
          </a:xfrm>
          <a:prstGeom prst="line">
            <a:avLst/>
          </a:prstGeom>
          <a:ln w="9360">
            <a:solidFill>
              <a:srgbClr val="fcab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4581360"/>
            <a:ext cx="647640" cy="0"/>
          </a:xfrm>
          <a:prstGeom prst="line">
            <a:avLst/>
          </a:prstGeom>
          <a:ln w="9360">
            <a:solidFill>
              <a:srgbClr val="fcab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581360"/>
            <a:ext cx="2664000" cy="0"/>
          </a:xfrm>
          <a:prstGeom prst="line">
            <a:avLst/>
          </a:prstGeom>
          <a:ln w="9360">
            <a:solidFill>
              <a:srgbClr val="fcab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20920" y="43848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7c01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49640" y="43848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7c01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3080" y="43657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7c01"/>
                </a:solidFill>
                <a:latin typeface="Arial"/>
              </a:rPr>
              <a:t>T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2492280"/>
            <a:ext cx="0" cy="208908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335772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4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0920" y="2492280"/>
            <a:ext cx="0" cy="144144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141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54"/>
                </a:solidFill>
                <a:latin typeface="Arial"/>
              </a:rPr>
              <a:t>I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08720" y="4005360"/>
            <a:ext cx="0" cy="57600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414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4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4797360"/>
            <a:ext cx="2879640" cy="0"/>
          </a:xfrm>
          <a:prstGeom prst="line">
            <a:avLst/>
          </a:prstGeom>
          <a:ln w="9360">
            <a:solidFill>
              <a:srgbClr val="555b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47181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4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Ecuaciones del model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7360" y="1717560"/>
            <a:ext cx="7852680" cy="4848840"/>
          </a:xfrm>
          <a:prstGeom prst="rect">
            <a:avLst/>
          </a:prstGeom>
          <a:solidFill>
            <a:srgbClr val="1a9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65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CT = CO+CP+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65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= (Co*D/Q) + (Cp* IMax</a:t>
            </a:r>
            <a:r>
              <a:rPr b="0" lang="es-ES_tradnl" sz="24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/2*Q)+Ce*Emax</a:t>
            </a:r>
            <a:r>
              <a:rPr b="0" lang="es-ES_tradnl" sz="24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/2*Q) 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65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Emax = Q-Imax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65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Sustituyendo , derivando e igualando a cer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65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65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Imax’ = (Ce/(Cp+Ce))*Q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65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Emax´ = (Q-Imax’)= (Cp/(Cp+Ce))*Q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65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Sustituyendo y agrupando en (1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65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CT’ = (Co*D/Q)+ (Cp*Ce/2*(Cp+Ce))*Q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65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Derivando con respecto a Q e igualando a cer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65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Q’ = [2*Co*D(Cp+Ce) /Cp*Ce]</a:t>
            </a:r>
            <a:r>
              <a:rPr b="0" lang="es-ES_tradnl" sz="24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65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efiniendo k = Ce/C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65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Q’ = [2*Co*D/Cp] </a:t>
            </a:r>
            <a:r>
              <a:rPr b="1" lang="es-ES_tradnl" sz="2400" spc="-1" strike="noStrike" baseline="30000">
                <a:solidFill>
                  <a:srgbClr val="ff9900"/>
                </a:solidFill>
                <a:latin typeface="Times New Roman"/>
                <a:ea typeface="Times New Roman"/>
              </a:rPr>
              <a:t>½  </a:t>
            </a:r>
            <a:r>
              <a:rPr b="1" lang="es-ES_tradnl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*</a:t>
            </a:r>
            <a:r>
              <a:rPr b="1" lang="es-ES_tradnl" sz="2400" spc="-1" strike="noStrike" baseline="30000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[(1+k) / k] </a:t>
            </a:r>
            <a:r>
              <a:rPr b="1" lang="es-ES_tradnl" sz="2400" spc="-1" strike="noStrike" baseline="30000">
                <a:solidFill>
                  <a:srgbClr val="ff9900"/>
                </a:solidFill>
                <a:latin typeface="Times New Roman"/>
                <a:ea typeface="Times New Roman"/>
              </a:rPr>
              <a:t>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65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Ecuaciones del model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905120"/>
            <a:ext cx="7917120" cy="4989240"/>
          </a:xfrm>
          <a:prstGeom prst="rect">
            <a:avLst/>
          </a:prstGeom>
          <a:solidFill>
            <a:srgbClr val="1a9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T’ = Q’/D = [2 *Co/D*Cp]</a:t>
            </a:r>
            <a:r>
              <a:rPr b="0" lang="es-ES_tradnl" sz="24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½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* [(1+k)/k] </a:t>
            </a:r>
            <a:r>
              <a:rPr b="0" lang="es-ES_tradnl" sz="24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max’ = (k/(1+k))*Q’ =[2*Co*D/Cp)]</a:t>
            </a:r>
            <a:r>
              <a:rPr b="0" lang="es-ES_tradnl" sz="24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½</a:t>
            </a:r>
            <a:r>
              <a:rPr b="0" lang="es-ES_tradnl" sz="24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*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[k(1+k)] </a:t>
            </a:r>
            <a:r>
              <a:rPr b="0" lang="es-ES_tradnl" sz="24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m’=Imax’</a:t>
            </a:r>
            <a:r>
              <a:rPr b="0" lang="es-ES_tradnl" sz="24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/2*Q’=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½*(2*Co*D/Cp)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½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[(k/(1+k)]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3/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max’ = Imax’</a:t>
            </a:r>
            <a:r>
              <a:rPr b="0" lang="es-ES_tradnl" sz="24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/2*Q = ½ [2*Co*D/ Ce] </a:t>
            </a:r>
            <a:r>
              <a:rPr b="0" lang="es-ES_tradnl" sz="24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½ 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* [1/ (1+k) ] </a:t>
            </a:r>
            <a:r>
              <a:rPr b="0" lang="es-ES_tradnl" sz="24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1’ = (k/(1+k)) * T’     T1’/T= (k/(1+k)) 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iempo de ciclo  sin escasez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2’ = (1/(1+k)*T’         T2’/T= (1/(1+k))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iempo de ciclo  con escasez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T= [2*Co*D*Cp]</a:t>
            </a:r>
            <a:r>
              <a:rPr b="0" lang="es-ES_tradnl" sz="24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½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*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[k/ (1+k)] </a:t>
            </a:r>
            <a:r>
              <a:rPr b="0" lang="es-ES_tradnl" sz="24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= [2*Co*D*Ce]</a:t>
            </a:r>
            <a:r>
              <a:rPr b="0" lang="es-ES_tradnl" sz="24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½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*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[1/ (1+k)] </a:t>
            </a:r>
            <a:r>
              <a:rPr b="0" lang="es-ES_tradnl" sz="24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Modelo con rata de suministro Finita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rencia de Inventari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Modelo con rata de suministro finit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Rata de demanda constan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Rata de producción constan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Rata de suministro &gt; que rata de demanda durante la produc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roducir durante  T1 y no producir durante T2 y esto es una estrategia fij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No escas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Gráfico y parámetros del model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43000" y="1413000"/>
          <a:ext cx="7763040" cy="331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13000"/>
                    <a:ext cx="776304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122560" y="5084640"/>
            <a:ext cx="2449440" cy="120276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aeaea"/>
                </a:solidFill>
                <a:latin typeface="Arial"/>
              </a:rPr>
              <a:t>Co= 5000 $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aeaea"/>
                </a:solidFill>
                <a:latin typeface="Arial"/>
              </a:rPr>
              <a:t>R= 0.005 $/$seman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aeaea"/>
                </a:solidFill>
                <a:latin typeface="Arial"/>
              </a:rPr>
              <a:t>C= 200 $/Unida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5084640"/>
            <a:ext cx="3313440" cy="120276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aeaea"/>
                </a:solidFill>
                <a:latin typeface="Arial"/>
              </a:rPr>
              <a:t>D= 180 Unidades/seman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aeaea"/>
                </a:solidFill>
                <a:latin typeface="Arial"/>
              </a:rPr>
              <a:t>P= 288 unidades/seman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aeaea"/>
                </a:solidFill>
                <a:latin typeface="Arial"/>
              </a:rPr>
              <a:t>P-D= 180 Unidedes/seman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8000" y="4508640"/>
            <a:ext cx="4751640" cy="0"/>
          </a:xfrm>
          <a:prstGeom prst="line">
            <a:avLst/>
          </a:prstGeom>
          <a:ln w="9360">
            <a:solidFill>
              <a:srgbClr val="555b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4221000"/>
            <a:ext cx="360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4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2T16:52:58Z</dcterms:created>
  <dc:creator>vl.</dc:creator>
  <dc:description/>
  <dc:language>en-US</dc:language>
  <cp:lastModifiedBy>Victor</cp:lastModifiedBy>
  <dcterms:modified xsi:type="dcterms:W3CDTF">2003-07-07T21:14:42Z</dcterms:modified>
  <cp:revision>24</cp:revision>
  <dc:subject/>
  <dc:title>Modelos Con Escacez</dc:title>
</cp:coreProperties>
</file>