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CD6-AFDE-41A4-9276-0C3F2AFE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0C41-4919-4256-B919-8BA628E4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357-F011-431F-9D0E-FCFDF892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319-61A3-4821-866D-2044457D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9BD-9855-4E78-B8E2-6CD691A6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F54-9655-48CD-B87D-186617AD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7E7-82F6-4158-AC5D-82B2CD47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3B0B-AD26-42C7-9193-92D880EF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27280" y="274320"/>
            <a:ext cx="605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209-EC9F-4840-A38A-C8DAA30A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1FF-3D89-4469-B010-D3B787C9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0E8-1FDB-4EDE-8926-D63C579C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500-D418-4EC4-9114-39F45125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A025-EC53-485D-88EC-9024A13E64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24000" y="333360"/>
          <a:ext cx="2181240" cy="61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33360"/>
                    <a:ext cx="21812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539640" y="981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E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encia de Invent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a Se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31B-20C8-4F19-A949-2709655B66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a gerencia de inventario exitosa es consecuencia de: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a política que haga sonar la importancia de gerenciar el inven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Un sistema de computación efectivo en cuanto Software y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 conocimiento efectivo para manejar todo el sistema e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0865-A724-4A52-B104-E164C89176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rencia De Inventa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be tener la mercancía correcta en la localización correcta en el tiempo correct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Debe reducir al mínimo el  costo y maximizar cal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11280" y="1700280"/>
            <a:ext cx="6121440" cy="172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 puede resumir en pocas palab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3B8-3712-44E6-8446-DC694C08DB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ssues en  I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antidad de dinero en inventario debe ser controlada debido a los altos costos de intereses por  préstamos y almacenaj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1280" y="1700280"/>
            <a:ext cx="6121440" cy="172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u 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D25-B2A0-4095-8330-2BD61080EA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ssues en  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asunciones hacer sobre el costo del flujo del inve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precios deben asignarse al inventa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sistemas de inventario a utiliz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ómo proteger el inventario contra pérd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11280" y="1700280"/>
            <a:ext cx="6121440" cy="172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cisiones importa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 respecto a inventario incluy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DDC-1550-4CAB-81B9-F2F1F332DC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os robos y los inv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s empleados, por lo general, valoran más el dinero que a los bienes de cambio. Si al concluir el día no cierra la caja diaria el tesorero o el encargado se quedará hasta encontrar la diferencia; sin embargo el dinero inmovilizado en bienes de cambio es mucho mayor y en muy pocas empresas se lleva un control de los mism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84D-C383-419E-9078-A0746FCC45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os robos y los inv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mediatamente que comience a controlar sus inventarios notará un cambio de cultura en su empresa. Sus buenos empleados estarán motivados porque mediante el inventario usted podrá fortalecer su confiabilidad y reconocerá su efic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ementando una política de Control de Inventarios usted podrá poner en marcha un programa de reconocimiento de desempeño para su personal, bonificando los buenos resultados y descontando los falt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997-65C8-42BB-9DF9-6A390A1B30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abilidad  de los inventar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inventario se considera un activo corriente porque será vendido o Usado  normalmente dentro de un tiempo o dentro del ciclo de 1 año durante el funcionamiento de una compañí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Arial"/>
              </a:rPr>
              <a:t>Inventario de mercancía</a:t>
            </a:r>
            <a:r>
              <a:rPr b="0" i="1" lang="es-E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iste en todas las mercancías poseídas y sostenidas para la venta en el curso del negocio regula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C49-6FAE-4D7F-A265-70C67CBF61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abilidad de los inventar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entidades de fabricación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ntienen otros tipos de inventario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terias pri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proces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ductos termi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9BF-B883-45C7-9332-5CF86D9212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55720" y="266760"/>
            <a:ext cx="6288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nagement Choices in Accounting for Inven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71640" y="1413000"/>
            <a:ext cx="7943400" cy="4835520"/>
            <a:chOff x="971640" y="1413000"/>
            <a:chExt cx="7943400" cy="4835520"/>
          </a:xfrm>
        </p:grpSpPr>
        <p:sp>
          <p:nvSpPr>
            <p:cNvPr id="84" name=""/>
            <p:cNvSpPr/>
            <p:nvPr/>
          </p:nvSpPr>
          <p:spPr>
            <a:xfrm>
              <a:off x="1008360" y="1413000"/>
              <a:ext cx="7906680" cy="4835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71640" y="1584000"/>
              <a:ext cx="18216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26640" y="5252040"/>
              <a:ext cx="10591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termin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43440" y="4400640"/>
              <a:ext cx="336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96800" y="3612600"/>
              <a:ext cx="0" cy="207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29480" y="3821040"/>
              <a:ext cx="116280" cy="119880"/>
            </a:xfrm>
            <a:custGeom>
              <a:avLst/>
              <a:gdLst/>
              <a:ahLst/>
              <a:rect l="l" t="t" r="r" b="b"/>
              <a:pathLst>
                <a:path w="76" h="87">
                  <a:moveTo>
                    <a:pt x="38" y="9"/>
                  </a:moveTo>
                  <a:lnTo>
                    <a:pt x="33" y="8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8" y="86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3" y="1"/>
                  </a:lnTo>
                  <a:lnTo>
                    <a:pt x="71" y="2"/>
                  </a:lnTo>
                  <a:lnTo>
                    <a:pt x="70" y="2"/>
                  </a:lnTo>
                  <a:lnTo>
                    <a:pt x="70" y="4"/>
                  </a:lnTo>
                  <a:lnTo>
                    <a:pt x="68" y="5"/>
                  </a:lnTo>
                  <a:lnTo>
                    <a:pt x="66" y="6"/>
                  </a:lnTo>
                  <a:lnTo>
                    <a:pt x="62" y="6"/>
                  </a:lnTo>
                  <a:lnTo>
                    <a:pt x="61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48" y="8"/>
                  </a:lnTo>
                  <a:lnTo>
                    <a:pt x="43" y="8"/>
                  </a:lnTo>
                  <a:lnTo>
                    <a:pt x="38" y="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96800" y="4366080"/>
              <a:ext cx="0" cy="37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96800" y="4644720"/>
              <a:ext cx="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29480" y="4654440"/>
              <a:ext cx="116280" cy="124200"/>
            </a:xfrm>
            <a:custGeom>
              <a:avLst/>
              <a:gdLst/>
              <a:ahLst/>
              <a:rect l="l" t="t" r="r" b="b"/>
              <a:pathLst>
                <a:path w="76" h="90">
                  <a:moveTo>
                    <a:pt x="38" y="10"/>
                  </a:moveTo>
                  <a:lnTo>
                    <a:pt x="33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38" y="89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3" y="2"/>
                  </a:lnTo>
                  <a:lnTo>
                    <a:pt x="71" y="3"/>
                  </a:lnTo>
                  <a:lnTo>
                    <a:pt x="70" y="3"/>
                  </a:lnTo>
                  <a:lnTo>
                    <a:pt x="70" y="5"/>
                  </a:lnTo>
                  <a:lnTo>
                    <a:pt x="68" y="5"/>
                  </a:lnTo>
                  <a:lnTo>
                    <a:pt x="66" y="6"/>
                  </a:lnTo>
                  <a:lnTo>
                    <a:pt x="62" y="6"/>
                  </a:lnTo>
                  <a:lnTo>
                    <a:pt x="61" y="8"/>
                  </a:lnTo>
                  <a:lnTo>
                    <a:pt x="56" y="8"/>
                  </a:lnTo>
                  <a:lnTo>
                    <a:pt x="53" y="8"/>
                  </a:lnTo>
                  <a:lnTo>
                    <a:pt x="48" y="10"/>
                  </a:lnTo>
                  <a:lnTo>
                    <a:pt x="43" y="10"/>
                  </a:lnTo>
                  <a:lnTo>
                    <a:pt x="38" y="1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96800" y="5204880"/>
              <a:ext cx="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96800" y="5484960"/>
              <a:ext cx="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29480" y="5494680"/>
              <a:ext cx="116280" cy="122400"/>
            </a:xfrm>
            <a:custGeom>
              <a:avLst/>
              <a:gdLst/>
              <a:ahLst/>
              <a:rect l="l" t="t" r="r" b="b"/>
              <a:pathLst>
                <a:path w="76" h="89">
                  <a:moveTo>
                    <a:pt x="38" y="9"/>
                  </a:moveTo>
                  <a:lnTo>
                    <a:pt x="33" y="9"/>
                  </a:lnTo>
                  <a:lnTo>
                    <a:pt x="25" y="9"/>
                  </a:lnTo>
                  <a:lnTo>
                    <a:pt x="23" y="8"/>
                  </a:lnTo>
                  <a:lnTo>
                    <a:pt x="18" y="8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38" y="88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3" y="1"/>
                  </a:lnTo>
                  <a:lnTo>
                    <a:pt x="71" y="2"/>
                  </a:lnTo>
                  <a:lnTo>
                    <a:pt x="70" y="2"/>
                  </a:lnTo>
                  <a:lnTo>
                    <a:pt x="70" y="4"/>
                  </a:lnTo>
                  <a:lnTo>
                    <a:pt x="68" y="4"/>
                  </a:lnTo>
                  <a:lnTo>
                    <a:pt x="66" y="6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6" y="8"/>
                  </a:lnTo>
                  <a:lnTo>
                    <a:pt x="53" y="8"/>
                  </a:lnTo>
                  <a:lnTo>
                    <a:pt x="48" y="9"/>
                  </a:lnTo>
                  <a:lnTo>
                    <a:pt x="43" y="9"/>
                  </a:lnTo>
                  <a:lnTo>
                    <a:pt x="38" y="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73720" y="3564360"/>
              <a:ext cx="1498320" cy="275760"/>
            </a:xfrm>
            <a:custGeom>
              <a:avLst/>
              <a:gdLst/>
              <a:ahLst/>
              <a:rect l="l" t="t" r="r" b="b"/>
              <a:pathLst>
                <a:path w="978" h="200">
                  <a:moveTo>
                    <a:pt x="977" y="0"/>
                  </a:moveTo>
                  <a:lnTo>
                    <a:pt x="977" y="112"/>
                  </a:lnTo>
                  <a:lnTo>
                    <a:pt x="0" y="112"/>
                  </a:lnTo>
                  <a:lnTo>
                    <a:pt x="0" y="199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07480" y="3815280"/>
              <a:ext cx="113040" cy="12420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37" y="10"/>
                  </a:moveTo>
                  <a:lnTo>
                    <a:pt x="31" y="8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0" y="6"/>
                  </a:lnTo>
                  <a:lnTo>
                    <a:pt x="9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7" y="89"/>
                  </a:lnTo>
                  <a:lnTo>
                    <a:pt x="73" y="0"/>
                  </a:lnTo>
                  <a:lnTo>
                    <a:pt x="73" y="2"/>
                  </a:lnTo>
                  <a:lnTo>
                    <a:pt x="72" y="2"/>
                  </a:lnTo>
                  <a:lnTo>
                    <a:pt x="72" y="3"/>
                  </a:lnTo>
                  <a:lnTo>
                    <a:pt x="68" y="4"/>
                  </a:lnTo>
                  <a:lnTo>
                    <a:pt x="68" y="5"/>
                  </a:lnTo>
                  <a:lnTo>
                    <a:pt x="65" y="5"/>
                  </a:lnTo>
                  <a:lnTo>
                    <a:pt x="64" y="6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3" y="8"/>
                  </a:lnTo>
                  <a:lnTo>
                    <a:pt x="37" y="1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96520" y="3564360"/>
              <a:ext cx="1276200" cy="275760"/>
            </a:xfrm>
            <a:custGeom>
              <a:avLst/>
              <a:gdLst/>
              <a:ahLst/>
              <a:rect l="l" t="t" r="r" b="b"/>
              <a:pathLst>
                <a:path w="833" h="200">
                  <a:moveTo>
                    <a:pt x="0" y="0"/>
                  </a:moveTo>
                  <a:lnTo>
                    <a:pt x="0" y="112"/>
                  </a:lnTo>
                  <a:lnTo>
                    <a:pt x="832" y="112"/>
                  </a:lnTo>
                  <a:lnTo>
                    <a:pt x="832" y="199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05400" y="3815280"/>
              <a:ext cx="114840" cy="124200"/>
            </a:xfrm>
            <a:custGeom>
              <a:avLst/>
              <a:gdLst/>
              <a:ahLst/>
              <a:rect l="l" t="t" r="r" b="b"/>
              <a:pathLst>
                <a:path w="75" h="90">
                  <a:moveTo>
                    <a:pt x="37" y="10"/>
                  </a:moveTo>
                  <a:lnTo>
                    <a:pt x="31" y="8"/>
                  </a:lnTo>
                  <a:lnTo>
                    <a:pt x="26" y="8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9" y="6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7" y="89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3" y="6"/>
                  </a:lnTo>
                  <a:lnTo>
                    <a:pt x="60" y="8"/>
                  </a:lnTo>
                  <a:lnTo>
                    <a:pt x="56" y="8"/>
                  </a:lnTo>
                  <a:lnTo>
                    <a:pt x="53" y="8"/>
                  </a:lnTo>
                  <a:lnTo>
                    <a:pt x="48" y="8"/>
                  </a:lnTo>
                  <a:lnTo>
                    <a:pt x="42" y="8"/>
                  </a:lnTo>
                  <a:lnTo>
                    <a:pt x="37" y="1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998360" y="3956040"/>
              <a:ext cx="5891400" cy="417600"/>
              <a:chOff x="1998360" y="3956040"/>
              <a:chExt cx="5891400" cy="41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1998360" y="4019400"/>
                <a:ext cx="5811840" cy="3542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89800" y="3956040"/>
                <a:ext cx="5799960" cy="342000"/>
              </a:xfrm>
              <a:prstGeom prst="rect">
                <a:avLst/>
              </a:prstGeom>
              <a:solidFill>
                <a:srgbClr val="ffbf9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31880" y="3999960"/>
                <a:ext cx="2997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PPLICATION OF MATCHING RU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1998360" y="4804920"/>
              <a:ext cx="5891400" cy="417600"/>
              <a:chOff x="1998360" y="4804920"/>
              <a:chExt cx="5891400" cy="417600"/>
            </a:xfrm>
          </p:grpSpPr>
          <p:sp>
            <p:nvSpPr>
              <p:cNvPr id="105" name=""/>
              <p:cNvSpPr/>
              <p:nvPr/>
            </p:nvSpPr>
            <p:spPr>
              <a:xfrm>
                <a:off x="1998360" y="4868280"/>
                <a:ext cx="5811840" cy="3542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089800" y="4804920"/>
                <a:ext cx="5799960" cy="34200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201120" y="4847760"/>
                <a:ext cx="343656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OST OF GOODS AVAILABLE FOR SA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008800" y="5649480"/>
              <a:ext cx="5889960" cy="418680"/>
              <a:chOff x="2008800" y="5649480"/>
              <a:chExt cx="5889960" cy="418680"/>
            </a:xfrm>
          </p:grpSpPr>
          <p:sp>
            <p:nvSpPr>
              <p:cNvPr id="109" name=""/>
              <p:cNvSpPr/>
              <p:nvPr/>
            </p:nvSpPr>
            <p:spPr>
              <a:xfrm>
                <a:off x="2008800" y="5713920"/>
                <a:ext cx="5810400" cy="3542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99160" y="5649480"/>
                <a:ext cx="5799600" cy="341640"/>
              </a:xfrm>
              <a:prstGeom prst="rect">
                <a:avLst/>
              </a:prstGeom>
              <a:solidFill>
                <a:srgbClr val="ffbfd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32280" y="5693400"/>
                <a:ext cx="5503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               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OST OF GOODS SOLD                      ENDING INVENTOR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391400" y="1621080"/>
              <a:ext cx="1909080" cy="1972800"/>
              <a:chOff x="1391400" y="1621080"/>
              <a:chExt cx="1909080" cy="1972800"/>
            </a:xfrm>
          </p:grpSpPr>
          <p:sp>
            <p:nvSpPr>
              <p:cNvPr id="113" name=""/>
              <p:cNvSpPr/>
              <p:nvPr/>
            </p:nvSpPr>
            <p:spPr>
              <a:xfrm>
                <a:off x="1391400" y="1688400"/>
                <a:ext cx="1829520" cy="19054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83200" y="1621080"/>
                <a:ext cx="1817280" cy="1892880"/>
              </a:xfrm>
              <a:prstGeom prst="rect">
                <a:avLst/>
              </a:prstGeom>
              <a:solidFill>
                <a:srgbClr val="9ff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735560" y="1664280"/>
              <a:ext cx="1278720" cy="622080"/>
              <a:chOff x="1735560" y="1664280"/>
              <a:chExt cx="1278720" cy="622080"/>
            </a:xfrm>
          </p:grpSpPr>
          <p:sp>
            <p:nvSpPr>
              <p:cNvPr id="116" name=""/>
              <p:cNvSpPr/>
              <p:nvPr/>
            </p:nvSpPr>
            <p:spPr>
              <a:xfrm>
                <a:off x="1804680" y="1664280"/>
                <a:ext cx="114156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INVENTOR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35560" y="1832400"/>
                <a:ext cx="1278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ROCESS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74520" y="1999440"/>
                <a:ext cx="101340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SYSTEMS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722240" y="2261520"/>
              <a:ext cx="991800" cy="317160"/>
              <a:chOff x="1722240" y="2261520"/>
              <a:chExt cx="991800" cy="317160"/>
            </a:xfrm>
          </p:grpSpPr>
          <p:sp>
            <p:nvSpPr>
              <p:cNvPr id="120" name=""/>
              <p:cNvSpPr/>
              <p:nvPr/>
            </p:nvSpPr>
            <p:spPr>
              <a:xfrm>
                <a:off x="1722240" y="2261520"/>
                <a:ext cx="24840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87400" y="2261520"/>
                <a:ext cx="92664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eriodic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722240" y="2478240"/>
              <a:ext cx="1066680" cy="317160"/>
              <a:chOff x="1722240" y="2478240"/>
              <a:chExt cx="1066680" cy="317160"/>
            </a:xfrm>
          </p:grpSpPr>
          <p:sp>
            <p:nvSpPr>
              <p:cNvPr id="123" name=""/>
              <p:cNvSpPr/>
              <p:nvPr/>
            </p:nvSpPr>
            <p:spPr>
              <a:xfrm>
                <a:off x="1722240" y="2478240"/>
                <a:ext cx="24840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87400" y="2478240"/>
                <a:ext cx="100152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erpetual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963960" y="1621080"/>
              <a:ext cx="1909080" cy="1972800"/>
              <a:chOff x="3963960" y="1621080"/>
              <a:chExt cx="1909080" cy="1972800"/>
            </a:xfrm>
          </p:grpSpPr>
          <p:sp>
            <p:nvSpPr>
              <p:cNvPr id="126" name=""/>
              <p:cNvSpPr/>
              <p:nvPr/>
            </p:nvSpPr>
            <p:spPr>
              <a:xfrm>
                <a:off x="3963960" y="1688400"/>
                <a:ext cx="1829520" cy="19054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53960" y="1621080"/>
                <a:ext cx="1819080" cy="1892880"/>
              </a:xfrm>
              <a:prstGeom prst="rect">
                <a:avLst/>
              </a:prstGeom>
              <a:solidFill>
                <a:srgbClr val="9ff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4085280" y="2176200"/>
              <a:ext cx="1354680" cy="480960"/>
              <a:chOff x="4085280" y="2176200"/>
              <a:chExt cx="1354680" cy="480960"/>
            </a:xfrm>
          </p:grpSpPr>
          <p:sp>
            <p:nvSpPr>
              <p:cNvPr id="129" name=""/>
              <p:cNvSpPr/>
              <p:nvPr/>
            </p:nvSpPr>
            <p:spPr>
              <a:xfrm>
                <a:off x="4088160" y="2176200"/>
                <a:ext cx="24840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54760" y="2176200"/>
                <a:ext cx="85212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Specific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85280" y="2340000"/>
                <a:ext cx="135468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identificatio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088160" y="2509920"/>
              <a:ext cx="1415880" cy="317160"/>
              <a:chOff x="4088160" y="2509920"/>
              <a:chExt cx="1415880" cy="317160"/>
            </a:xfrm>
          </p:grpSpPr>
          <p:sp>
            <p:nvSpPr>
              <p:cNvPr id="133" name=""/>
              <p:cNvSpPr/>
              <p:nvPr/>
            </p:nvSpPr>
            <p:spPr>
              <a:xfrm>
                <a:off x="4088160" y="2509920"/>
                <a:ext cx="24840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50800" y="2509920"/>
                <a:ext cx="135324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Average cost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086720" y="2748600"/>
              <a:ext cx="1577160" cy="468720"/>
              <a:chOff x="4086720" y="2748600"/>
              <a:chExt cx="1577160" cy="468720"/>
            </a:xfrm>
          </p:grpSpPr>
          <p:sp>
            <p:nvSpPr>
              <p:cNvPr id="136" name=""/>
              <p:cNvSpPr/>
              <p:nvPr/>
            </p:nvSpPr>
            <p:spPr>
              <a:xfrm>
                <a:off x="4088160" y="2748600"/>
                <a:ext cx="24840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50440" y="2748600"/>
                <a:ext cx="151344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First-in, first-out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086720" y="2900160"/>
                <a:ext cx="28800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7240" y="2928960"/>
                <a:ext cx="6721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FIFO)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086720" y="3115800"/>
              <a:ext cx="1568880" cy="467280"/>
              <a:chOff x="4086720" y="3115800"/>
              <a:chExt cx="1568880" cy="467280"/>
            </a:xfrm>
          </p:grpSpPr>
          <p:sp>
            <p:nvSpPr>
              <p:cNvPr id="141" name=""/>
              <p:cNvSpPr/>
              <p:nvPr/>
            </p:nvSpPr>
            <p:spPr>
              <a:xfrm>
                <a:off x="4088160" y="3115800"/>
                <a:ext cx="24840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51160" y="3115800"/>
                <a:ext cx="150444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Last-in, first-out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86720" y="3265920"/>
                <a:ext cx="28800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95440" y="3296160"/>
                <a:ext cx="6645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LIFO)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6673680" y="1621080"/>
              <a:ext cx="1910520" cy="1972800"/>
              <a:chOff x="6673680" y="1621080"/>
              <a:chExt cx="1910520" cy="1972800"/>
            </a:xfrm>
          </p:grpSpPr>
          <p:sp>
            <p:nvSpPr>
              <p:cNvPr id="146" name=""/>
              <p:cNvSpPr/>
              <p:nvPr/>
            </p:nvSpPr>
            <p:spPr>
              <a:xfrm>
                <a:off x="6673680" y="1688400"/>
                <a:ext cx="1830960" cy="19054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63680" y="1621080"/>
                <a:ext cx="1820520" cy="1892880"/>
              </a:xfrm>
              <a:prstGeom prst="rect">
                <a:avLst/>
              </a:prstGeom>
              <a:solidFill>
                <a:srgbClr val="9ff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919560" y="2185560"/>
              <a:ext cx="695160" cy="317160"/>
              <a:chOff x="6919560" y="2185560"/>
              <a:chExt cx="695160" cy="317160"/>
            </a:xfrm>
          </p:grpSpPr>
          <p:sp>
            <p:nvSpPr>
              <p:cNvPr id="149" name=""/>
              <p:cNvSpPr/>
              <p:nvPr/>
            </p:nvSpPr>
            <p:spPr>
              <a:xfrm>
                <a:off x="6919560" y="2185560"/>
                <a:ext cx="24840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86880" y="2185560"/>
                <a:ext cx="62784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Cost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914880" y="2399400"/>
              <a:ext cx="1613880" cy="507240"/>
              <a:chOff x="6914880" y="2399400"/>
              <a:chExt cx="1613880" cy="507240"/>
            </a:xfrm>
          </p:grpSpPr>
          <p:sp>
            <p:nvSpPr>
              <p:cNvPr id="152" name=""/>
              <p:cNvSpPr/>
              <p:nvPr/>
            </p:nvSpPr>
            <p:spPr>
              <a:xfrm>
                <a:off x="6920280" y="2399400"/>
                <a:ext cx="24840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984720" y="2399400"/>
                <a:ext cx="154404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Market (if lower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14880" y="2589480"/>
                <a:ext cx="118404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han cost)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378320" y="1664280"/>
              <a:ext cx="1141560" cy="622080"/>
              <a:chOff x="4378320" y="1664280"/>
              <a:chExt cx="1141560" cy="622080"/>
            </a:xfrm>
          </p:grpSpPr>
          <p:sp>
            <p:nvSpPr>
              <p:cNvPr id="156" name=""/>
              <p:cNvSpPr/>
              <p:nvPr/>
            </p:nvSpPr>
            <p:spPr>
              <a:xfrm>
                <a:off x="4378320" y="1664280"/>
                <a:ext cx="114156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INVENTOR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91720" y="1832400"/>
                <a:ext cx="931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OST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0320" y="1999440"/>
                <a:ext cx="100440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METHOD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7090920" y="1664280"/>
              <a:ext cx="1141560" cy="455040"/>
              <a:chOff x="7090920" y="1664280"/>
              <a:chExt cx="1141560" cy="455040"/>
            </a:xfrm>
          </p:grpSpPr>
          <p:sp>
            <p:nvSpPr>
              <p:cNvPr id="160" name=""/>
              <p:cNvSpPr/>
              <p:nvPr/>
            </p:nvSpPr>
            <p:spPr>
              <a:xfrm>
                <a:off x="7090920" y="1664280"/>
                <a:ext cx="114156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VALU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161840" y="1832400"/>
                <a:ext cx="100440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METHOD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4C8-19C5-4892-9DBC-D93128E509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228600"/>
            <a:ext cx="5779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unto Import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azón de que la contabilidad  del inventario sea  importante para la medida de la rentabilidad en la empresa , es su impacto en las declaraciones de impuesto via co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F21-00E2-4F1B-87D7-1B2245843C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tivo de la S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ocer las reglas y aspectos generales del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r  los  distintos  tipos  de inventarios, sus usos y ventajas,  así como  las  características  principales  de los elementos de un sistema de invent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19A-5A31-42C9-98DF-FD6E3ADD22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efecto del inventario fi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antidad asignada al inventario final tiene un efecto directo en la renta net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fecto, el valor asignado al inventario final determina qué porción de este  se asigna a los costos  y qué porción se asigna al balance como inventario que se trasladara  al  período de contabilización próxim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F6E1-A8E9-4CE3-B074-9C9A1EBE62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impacto de las decisiones del inventario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2303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cisiones con respecto a inventario dan lugar generalmente a diversos valores de ganancias o per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BB3-E27A-4D86-AB65-7441A87B3B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impacto de las decisiones del inventario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gerencia debe balancear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meta para  la determinación apropiada de la rentabilida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meta de reducción al mínimo de los impuestos sobre la rent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flujos de liquidez de la compañ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659-B1FC-41FB-BD41-B290D15C5B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valuación del nivel del inventa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nivel del inventario tiene consecuencias económicas importantes para una compañí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gerencia desea una gran variedad y cantidad en la mano para maximizar vent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ostos de mantener  inventario son generalmente sustanciales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tener  niveles bajos del inventario puede dar lugar a ventas perdidas y a clientes infelices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45A-7FBA-48F1-B120-84FCC072F4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valuación del nivel del inventa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4560" y="1773000"/>
            <a:ext cx="69120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ompañías de comercialización y de fabricación están procurando reducir sus niveles del inventario cambiando a un ambiente de funcionamiento justo a tiemp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882-44AC-4FC2-BBF3-BC02E76468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ipos de Inventar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ario Cicl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arios de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arios est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arios en tráns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CE2-674E-422F-9EB8-1D4E9CFD51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ario Cicla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 inventarios usados cuando el suministro se realiza en l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 funcion es desacoplar o independizar las operaciones del usuario y las del suplidor de inven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3D5-71AD-40A0-B3C6-BB62FB8407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arios de 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arios que se utilizan para eliminar los llamados quiebres de inventario o al menos para disminuir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E2D-F715-4997-A6D4-90E425F5A0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arios esta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ellos inventarios que se acumulan para cubrir  los picos de la demanda que se registran en algunas épocas del 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796-72CD-4F9E-8AD3-0F96AA2FCC0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ventario en tránsi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inventario no tiene que estar en la posesión física del comprador o del vendedo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 propiedad de mercancías en tránsito es determinada por el acuerdo de env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524-BC74-447E-83A3-05F7B68B55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troducción y salu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glas del 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g.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gr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troducción a la gerencia de inventa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Inventarios. Definiciones.  Concepto de  Gerencia óptima de inven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nciones de los inventari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abilidad de los Inve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Inventarios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r qué disponer de los inventarios. Control de inventarios / Gestión de inven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lación del control de inventarios con otras áreas de la empresa.  Impa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8E4-67CF-493B-9CB1-7661754765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ventario en tránsi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rcancías salientes (envío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rcancías entrantes (recib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importante conocer que el costo del inventario viene afectado por la condición de entrega de la mercancía Incoterm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4215-E67C-4C76-9B73-661398BDF2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Arial"/>
              </a:rPr>
              <a:t>Leer el artic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3066840"/>
            <a:ext cx="82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Your Ideal Inventory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by Jon Schreibf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60E-56CE-4987-A11A-AF5B4A2809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094200" y="2781360"/>
            <a:ext cx="2954160" cy="18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I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164-8344-4F87-A807-D02ED11CC8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del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g we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tp://gerinvunitec.tripod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alu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er. Parcial:  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do. Parcial:  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utoria 20 % Proyecto 2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matoria de parciales 18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 inasistencias a clase teórica o a tutoria activaran la aplicación del reglamento estudia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867-3C5C-4733-A4F9-31104AFF49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RENCIA DEL INVEN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E89-B16E-4DE8-8075-7B805EC480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e debemos discut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quí discutiremos que debe hacerse para que los inventarios sean manejados con éxi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Conocer Que son los Inv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Crear conciencia a los empleados para que entiendan que pasa si el manejo de los inventarios es p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Importancia de proteger la compañía contra los ro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C8A5-A624-464F-A293-A792EC636B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e debemos discut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regacion correcta de los inv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blecer una lista de los inventarios que deben mantenerse en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ena contabilidad de los inv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líticas y procedimientos que garanticen que los inventarios estarán bien rela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51E7-A713-4C58-A645-CEF8125C44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e son los invent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628280"/>
            <a:ext cx="8231040" cy="452772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Comprende los bienes corporales adquiridos a cualquier título, con la intención de ser comercializados y destinados a la transformación o consumidos en el proceso de producción o de prestación de servicios, en desarrollo de la actividad fundamental de la empres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7AD-4656-4E99-BE38-6EB8AE4DD4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rencia De Inven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gerencia del inventario para  obtener beneficios es una de las tareas más complejas y más desafiadoras de  la g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4076640"/>
            <a:ext cx="7058160" cy="162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inventario representa uno de los activos más grandes de la comercialización en  un nego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g Victor Le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50B-5489-48D0-8AE0-230C71B9BF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1T16:37:44Z</dcterms:created>
  <dc:creator>vl.</dc:creator>
  <dc:description/>
  <dc:language>en-US</dc:language>
  <cp:lastModifiedBy>Victor</cp:lastModifiedBy>
  <dcterms:modified xsi:type="dcterms:W3CDTF">2005-04-25T01:12:56Z</dcterms:modified>
  <cp:revision>14</cp:revision>
  <dc:subject/>
  <dc:title>Gerencia de Inventarios</dc:title>
</cp:coreProperties>
</file>